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4B9-69D7-4CDF-8865-EE3A9B74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A77-64A5-4425-8306-E54855D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8F3-5AFE-4F34-860B-62665D69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059-FDF6-4219-92CF-C2105F2D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92B-C8ED-4E3A-80F9-21DA0AB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0E9E-2FAF-4A67-8A9D-447712E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FA6-8F06-4426-A72F-EE54E9D8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BEDE-09D0-49F1-8A96-CC74628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F50-221C-40FA-A25F-3AEC2DEC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5EC6-F3E2-4268-9F94-FDFCCD44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6D8-1BBF-424A-B0EB-A0FBF09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390-16D3-4EFF-A047-15BEA33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412F-32F8-4112-9322-1C13A1E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DBCC-99D1-480B-BCEB-151F21F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096F-49BB-4AC3-B244-24248AD4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FFDB-573C-4E35-AE68-D303BF4A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CA7-9257-43BB-B513-6D9DFF9A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5D2A1-5255-4995-B841-9AD50A64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4941-22BC-454F-885F-9D070FCC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2B376-FC76-4645-AED4-0C9188C5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0FFB-A97D-4814-A678-F6F4DB8F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F8A0-D757-4A1B-AACF-72F0CD4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0A5-D32F-4B80-90C5-58A99876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1DBB-0B46-4FC1-A20A-319D2ACE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6AFB-6709-4484-A688-C0601A8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F9F8-524E-4F1D-BF62-9EBB3B2D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4251-E0C6-4782-8190-10743857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3817-2A01-435C-A068-280C63C9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46A4-C092-44C3-89FB-BEBF135D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C1F3-A12E-4C50-9027-45465807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68287-2EB2-46BA-9AB9-EE5DFF39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FEDB-A973-4B30-9B5A-21C1F8CB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E37C7-F807-4F29-B682-6D94D57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E84-285B-48D0-AAC4-C24F1666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64A6-EFAC-4AD5-B43B-DAD899AD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27C77-0299-40E0-81E4-F290CBC8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509A-FE4B-4229-B4DC-A33CAF6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4CBD1-08EC-48BB-BE89-B580F85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299F-0CB3-4B0E-ADA8-ECF175D2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E035-57A2-410A-85C3-C2DC75F5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932B-97BD-4975-A079-1782F9B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0DF8-A342-4764-8144-8BDA420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53B4-CA9D-47EE-B0E9-5B428139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70C-77CC-4FA7-B38E-AA66BC25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EFC-A52B-443B-A6B9-5BA07B08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3FE-3C88-4969-B1A0-26DF365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D71-CF73-414D-9A4A-0C6592AB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235-80CC-4E67-A8C0-72212B0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8EF7-909D-4BB9-8E3A-E87BC83FA3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BA32-7943-4362-B2C7-D7787ED018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582-9000-4903-9400-2C0C39CB8F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14B0-BCA5-4579-B79E-E9CCFBABB2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18920" y="1844280"/>
            <a:ext cx="6046920" cy="208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de-DE" sz="4000" spc="-1" strike="noStrike">
                <a:solidFill>
                  <a:srgbClr val="3399ff"/>
                </a:solidFill>
                <a:latin typeface="Comic Sans MS"/>
              </a:rPr>
              <a:t>Präsentation von mir!!</a:t>
            </a:r>
            <a:br>
              <a:rPr sz="4000"/>
            </a:br>
            <a:r>
              <a:rPr b="0" lang="de-DE" sz="4000" spc="-1" strike="noStrike">
                <a:solidFill>
                  <a:srgbClr val="3399ff"/>
                </a:solidFill>
                <a:latin typeface="Comic Sans MS"/>
              </a:rPr>
              <a:t>Presentation of myself!!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84000" y="1699920"/>
            <a:ext cx="6659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99"/>
                </a:solidFill>
                <a:latin typeface="Arial"/>
              </a:rPr>
              <a:t>Mein Name ist Th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99"/>
                </a:solidFill>
                <a:latin typeface="Arial"/>
              </a:rPr>
              <a:t>My name is th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66ff"/>
                </a:solidFill>
                <a:latin typeface="Arial"/>
              </a:rPr>
              <a:t>Ich bin zwölf Jah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66ff"/>
                </a:solidFill>
                <a:latin typeface="Arial"/>
              </a:rPr>
              <a:t>I am twelve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Ich bin Schülerin und ich gehe auf das zweite Experimentelle  Gymnasium von Thessalon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I am student of 2</a:t>
            </a:r>
            <a:r>
              <a:rPr b="0" lang="de-DE" sz="3200" spc="-1" strike="noStrike" baseline="30000">
                <a:solidFill>
                  <a:srgbClr val="9966ff"/>
                </a:solidFill>
                <a:latin typeface="Arial"/>
              </a:rPr>
              <a:t>nd</a:t>
            </a: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 Experimen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66ff"/>
                </a:solidFill>
                <a:latin typeface="Arial"/>
              </a:rPr>
              <a:t>Gymnasium of Thessalon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-14582880" y="-9244080"/>
            <a:ext cx="38100240" cy="28575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236000" y="260280"/>
            <a:ext cx="72720" cy="73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-171360"/>
            <a:ext cx="2519280" cy="20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bin i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r sehen u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s i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9:27:14Z</dcterms:created>
  <dc:creator>STIROS</dc:creator>
  <dc:description/>
  <dc:language>en-US</dc:language>
  <cp:lastModifiedBy>STIROS</cp:lastModifiedBy>
  <dcterms:modified xsi:type="dcterms:W3CDTF">2011-03-14T14:16:11Z</dcterms:modified>
  <cp:revision>7</cp:revision>
  <dc:subject/>
  <dc:title>Παρουσίαση του  εαυτού μου!!! </dc:title>
</cp:coreProperties>
</file>